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B2D-4458-4623-9AB2-37F8C71E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0A2-8D70-461A-BCFC-9638092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29A-375B-4B83-B2BB-AD644DE6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3C1-01AC-4412-B089-FBE62284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6B0-C265-4D7B-B2AE-75B686B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E85-E53B-43BE-A5DB-F89FE703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7CD-FB6B-4846-BC1F-8511FD39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A84-B1D1-435D-836B-EC7C2936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F5E-45B7-4F0E-A42A-B354B17B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61C-B78E-4341-9DC4-A601D4D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048-B505-4DD6-89D4-404BAC6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13B-F6A8-4BD7-8913-62F1B79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C632-30DF-4959-B374-C7C882691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m/marktwain122650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c/carljung157295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Human B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1295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ard Gardner’s Multiple Intellig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Linguistic Intelligence: (Word Smart)These learners have highly developed auditory skills and are generally elegant speakers.  They think in words rather than pi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Logical – Mathematical Intelligence:  (Numbering-reasoning smart)These learners think conceptually in logical and numerical patterns making connections between pieces of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ard Gardner’s Multiple Intellig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Spatial Intelligence: (Picture smart) These learners tend to think in pictures and need to create vivid mental images to retain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Bodily/Kinesthetic Intelligence:  (Body smart)These learners express themselves through movement.  They have a good sense of balance and eye-hand coord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ard Gardner’s Multiple Intellig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Musical Intelligence: (Music smart) These learners think in sounds, rhythms and patterns.  They immediately respond to music either appreciating or criticizing what they h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Interpersonal Intelligence: (People smart) These learners try to see things from other people’s point of view in order to understand how they think and fe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ard Gardner’s Multiple Intelligen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Intrapersonal Intelligence: (Self smart) These learners try to understand their inner feelings, dreams, relationships with other and strengths and weak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765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howcard Gothic"/>
                <a:ea typeface="Cambria Math"/>
              </a:rPr>
              <a:t>Which  intelligence 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9555" t="0" r="955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472428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Gray Area – Frontal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White Area – Parietal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Red Area – Occipital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pperplate Gothic Bold"/>
              </a:rPr>
              <a:t>Green Area – Temporal lob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rcRect l="480" t="0" r="48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rontal Lob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Problem solving, emotional control, expressive language, voluntary movement, control of social behavior,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ccording to the National Institute for Mental Health the frontal lobe continues to develop into your twenties! (there is still ho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ietal Lob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uch, awareness of spatial relations, academic skills (reading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333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mporal Lob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mory, receptive language, musical awareness, sequenc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028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ccipital Lob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sual perception, visual inp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62160" y="1600200"/>
            <a:ext cx="481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Q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Q stands for Intelligence Quo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an in France in 19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issioned by the French government to find a method to differentiate between children who were intellectually normal and those who were inf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s include “normal,” “idiot,” or “imbecil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 is better to keep your mouth closed and let people think you are a fool than to open it and remove all doubt. </a:t>
            </a:r>
            <a:br>
              <a:rPr sz="1800"/>
            </a:br>
            <a:br>
              <a:rPr sz="1800"/>
            </a:b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k Tw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ve Classifications of Intelligence Quotie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 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% of Popu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0+Very superior2.2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0-129Superior6.7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0-119High average16.1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0-109Average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89Low average16.1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0-79Borderline6.7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ow 70Extremely low2.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does not understand a person, one tends to regard him as a fool. </a:t>
            </a:r>
            <a:br>
              <a:rPr sz="2400"/>
            </a:b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rl Ju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blems with IQ tes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Q measurement could be used to condemn a child to a permanent “condition” of stup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ligence cannot be described in a single s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s of the test included racial and cultural bigo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2:20:43Z</dcterms:created>
  <dc:creator>INSTALLER</dc:creator>
  <dc:description/>
  <dc:language>en-US</dc:language>
  <cp:lastModifiedBy>INSTALLER</cp:lastModifiedBy>
  <dcterms:modified xsi:type="dcterms:W3CDTF">2011-04-04T12:38:53Z</dcterms:modified>
  <cp:revision>7</cp:revision>
  <dc:subject/>
  <dc:title>The Human Brain</dc:title>
</cp:coreProperties>
</file>